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301B-3E18-4241-A22C-E67CD5B07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D8B-4BCA-4256-B452-E1E4B0EF2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B929-86EF-40EB-AD04-7BB41362B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84B-E6B3-4AB2-B3B9-A50075FE5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1645-202D-4EF3-9439-DBF0EB080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B698-29FC-4103-BA5E-C292CDFAB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B418-5D3F-4C35-AF6E-38D66D83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5A9F-EF5E-4C3A-8261-99708FF29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98F6-5B4F-4F09-9E0B-8D8010FA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FC62-194A-44E7-B0F4-6798A669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8F0-31F8-437E-9333-C5EF8694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317-46BD-4733-98EF-432D0F8D6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EC7D11A-9FFF-47AD-A59B-A4667520CE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95280" y="5313240"/>
            <a:ext cx="4343400" cy="433728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934560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703584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ROJEKT „837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RAVIAN SCIENCE CENTRE B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STATICKÉ VÝPOČTY STŘECH PAVILONU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PROVĚŘENÍ NÁVRHU SKLADBY STŘECH NAVRHOVAN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Comic Sans MS"/>
              </a:rPr>
              <a:t>V ČÁSTI ARCHITEKTONICKO-STAVEBNÍHO REŠEN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4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474920" y="5594400"/>
            <a:ext cx="1809720" cy="904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286440" y="559368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21T10:35:58Z</dcterms:modified>
  <cp:revision>144</cp:revision>
  <dc:subject/>
  <dc:title>bez titulu</dc:title>
</cp:coreProperties>
</file>